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512C-3A02-4A75-8C12-166DBED38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0664-9B09-44CF-B0B1-66E9997B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F171-F870-4B46-B295-516BF9EA7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3C11-B6D7-4C0F-9DE3-BADBA2A4F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0FBF-EE03-4D08-AE2B-C4FCA6D5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6B00-C1C2-46B9-9D3C-3EFA1CEE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05BB-E185-43BF-B6D5-00597497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32D1-5936-4A21-B472-4479FD0C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2C69-5CBB-4E2A-A23E-3304BD2F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7BF9-61C9-42E2-B37D-3A017E2A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3C77-11EE-45B7-9752-4FCA3FB7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AE90-37E8-4F35-8EE3-C1F234CF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60C4-68E2-4C99-831E-E1A3E873F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utunk s nem lankadunk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járunk és nem fáradunk el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mert az Úr jár előttünk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s az Ő kegyelme nem fogy el.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agas helyekre szárnyalunk fel, mint a sas az ég felé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s mikor jelenlétedbe lépünk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várjuk eljövetelé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Benned bízunk, ó, Urunk.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 Te sátradban van otthonunk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és megújul erőnk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ert velünk vagy, Istenün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Benned bízunk, ó, Urunk.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 Te sátradban van otthonunk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és megújul erőnk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ert velünk van …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 mi Istenünk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8T18:34:58Z</dcterms:created>
  <dc:creator>Gyügyei Tamás</dc:creator>
  <dc:description/>
  <dc:language>en-US</dc:language>
  <cp:lastModifiedBy>Gyügyei Tamás</cp:lastModifiedBy>
  <dcterms:modified xsi:type="dcterms:W3CDTF">2003-11-08T19:03:57Z</dcterms:modified>
  <cp:revision>44</cp:revision>
  <dc:subject/>
  <dc:title>PowerPoint bemutató</dc:title>
</cp:coreProperties>
</file>